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2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B8A38-B72D-4263-BE7F-8D65698A872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C61A1-63CE-4EF5-B6F5-446C7BD245E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22320" y="74304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0"/>
          <p:cNvSpPr/>
          <p:nvPr/>
        </p:nvSpPr>
        <p:spPr>
          <a:xfrm>
            <a:off x="8542440" y="6545160"/>
            <a:ext cx="695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66886-3266-4F6A-8A54-320DB0A8F727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22" descr="cabecalho"/>
          <p:cNvPicPr/>
          <p:nvPr/>
        </p:nvPicPr>
        <p:blipFill>
          <a:blip r:embed="rId2"/>
          <a:srcRect l="0" t="89500" r="0" b="0"/>
          <a:stretch/>
        </p:blipFill>
        <p:spPr>
          <a:xfrm>
            <a:off x="0" y="6813720"/>
            <a:ext cx="9140760" cy="7128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24"/>
          <p:cNvGrpSpPr/>
          <p:nvPr/>
        </p:nvGrpSpPr>
        <p:grpSpPr>
          <a:xfrm>
            <a:off x="0" y="0"/>
            <a:ext cx="9144000" cy="863640"/>
            <a:chOff x="0" y="0"/>
            <a:chExt cx="9144000" cy="863640"/>
          </a:xfrm>
        </p:grpSpPr>
        <p:pic>
          <p:nvPicPr>
            <p:cNvPr id="3" name="Picture 21" descr="cabecalho"/>
            <p:cNvPicPr/>
            <p:nvPr/>
          </p:nvPicPr>
          <p:blipFill>
            <a:blip r:embed="rId3"/>
            <a:stretch/>
          </p:blipFill>
          <p:spPr>
            <a:xfrm>
              <a:off x="0" y="648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Picture 23" descr="cabecalho"/>
            <p:cNvPicPr/>
            <p:nvPr/>
          </p:nvPicPr>
          <p:blipFill>
            <a:blip r:embed="rId4"/>
            <a:srcRect l="62205" t="0" r="15748" b="0"/>
            <a:stretch/>
          </p:blipFill>
          <p:spPr>
            <a:xfrm>
              <a:off x="7128000" y="0"/>
              <a:ext cx="2016000" cy="857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" name="Picture 25" descr="governo-FEDERAL-negat"/>
          <p:cNvPicPr/>
          <p:nvPr/>
        </p:nvPicPr>
        <p:blipFill>
          <a:blip r:embed="rId5"/>
          <a:stretch/>
        </p:blipFill>
        <p:spPr>
          <a:xfrm>
            <a:off x="7277040" y="176040"/>
            <a:ext cx="1687680" cy="51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Figura2"/>
          <p:cNvPicPr/>
          <p:nvPr/>
        </p:nvPicPr>
        <p:blipFill>
          <a:blip r:embed="rId1"/>
          <a:stretch/>
        </p:blipFill>
        <p:spPr>
          <a:xfrm>
            <a:off x="684360" y="1189080"/>
            <a:ext cx="7543800" cy="51926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1042920" y="1413000"/>
            <a:ext cx="693432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00000"/>
                </a:solidFill>
                <a:latin typeface="Arial"/>
              </a:rPr>
              <a:t>RESULTADO DO REGIME GERAL DE PREVIDÊNCIA SOCIAL – RGP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00000"/>
                </a:solidFill>
                <a:latin typeface="Arial"/>
              </a:rPr>
              <a:t>Agosto/201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Brasília, setembro de 20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539640" y="616572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PPS – Secretaria de Políticas de Previdência 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0" y="765000"/>
            <a:ext cx="914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m R$ milhões nomin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0" y="638172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PS/MP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8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0" y="765000"/>
            <a:ext cx="914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cumulado nos últimos 12 meses - Em R$ milhões de Agosto de 2013 (IN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0" y="630864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PS/MP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21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878544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0" y="765000"/>
            <a:ext cx="914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cumulado nos últimos 12 meses - Em R$ milhões nomin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0" y="630864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PS/MP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22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46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0" y="981000"/>
            <a:ext cx="91440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DESONERAÇÃO DA FOLHA E REVISÕES ADMINISTRATIV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80"/>
                </a:solidFill>
                <a:latin typeface="Arial"/>
              </a:rPr>
              <a:t>(Revisão do inciso II, Art. 29, da Lei nº 8.213/91; Revisão do Teto Previdenciário; e Estoque de COMPRE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76500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SONERAÇÃO DA FOLHA – ESTIMATIVA DA RENÚNCIA - 2012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–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m R$ milhõ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80"/>
                </a:solidFill>
                <a:latin typeface="Arial"/>
                <a:ea typeface="Times New Roman"/>
              </a:rPr>
              <a:t>A Portaria Conjunta STN/RFB/INSS/MPS nº 2, de 28/03/2013, estabelece a forma de apuração e repasse do valor da compensação devida pela União ao Fundo do Regime Geral de Previdência Social - FRGPS, em decorrência da desoneração de que trata a Lei 12.546, de 14 de dezembro de 201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0" y="5516640"/>
            <a:ext cx="896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Receita Federal do Brasil.  Elaboração: SPPS/MP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[A] - Valor teórico da Contribuição Previdenciária incidente sobre a folha de salários, se não houvesse desoneração. Massa Salarial GFIP x Alíquota de 29,14%. Percentual histórico observado nos anos de 2008 a 2011 relativo ao grupo de contribuintes beneficiados, equivalente a Contribuição Previdenciária Cota do Segurado (8, 9 ou 11%), RAT (1 a 3%) e a Cota Patronal sobre o total da folha (20%)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[B] - Pagamento em GPS. Contribuição Previdenciária Cota do Segurado (8, 9 ou 11%), RAT (1 a 3%) e parcela da Cota Patronal que permaneceu sobre folha (20%)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[C] - Contribuição Previdenciária Patronal sobre faturamento recolhida em DARF específico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[D] - Total dos pagamentos efetuado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[E] - Renúncia é igual à diferença entre [A] e [D]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9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36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765000"/>
            <a:ext cx="914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VISÕES ADMINISTRATIVAS –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m R$ milhões nomin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0" y="630864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PS/MP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8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806436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611280" y="1052640"/>
            <a:ext cx="79930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TENDÊNCIA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ARRECADAÇÃO, DESPESA E NECESSIDADE DE FINANCIAM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836640"/>
            <a:ext cx="91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 e Despesa com Benefícios Previdenciários, nos últimos 25 meses –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R$ bilhões de Agosto/2013 - INPC 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3471840" y="11224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25560" y="6464160"/>
            <a:ext cx="55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PS/MP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8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10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907920"/>
            <a:ext cx="914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80"/>
                </a:solidFill>
                <a:latin typeface="Arial"/>
                <a:ea typeface="Times New Roman"/>
              </a:rPr>
              <a:t>Composição da Arrecadação Líqu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Corrente, Recuperação de Créditos e Transferência a Terceiros, nos últimos 25 meses –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R$ bilhões de Agosto/2013 - INP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25560" y="6464160"/>
            <a:ext cx="55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PS/MP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5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488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250920" y="836640"/>
            <a:ext cx="8893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80"/>
                </a:solidFill>
                <a:latin typeface="Arial"/>
                <a:ea typeface="Times New Roman"/>
              </a:rPr>
              <a:t>Composição da Despesa com Benefícios Previdenciá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enefícios Pagos pelo INSS e Sentenças Judiciais nos últimos 25 meses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– Em R$ bilhões de Agosto/2013 (INP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25560" y="6464160"/>
            <a:ext cx="55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PS/MP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4" descr="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495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3636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ARRECADAÇÃO LÍQUIDA,  DESPESA COM BENEFÍCIOS E RESULTADO PREVIDENCIÁRI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URBA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0" y="833400"/>
            <a:ext cx="8991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cessidade de Financiamento da Previdência Social 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s últimos 25 meses –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R$ bilhões de Agosto/2013 - INP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25560" y="6464160"/>
            <a:ext cx="55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PS/MP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6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1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0" y="836640"/>
            <a:ext cx="8991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ado do RGPS por Clientela – Média móvel de 12 mes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dez/2001 a Agosto/2013) –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R$ Milhões de Agosto/2013 - INP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25560" y="6464160"/>
            <a:ext cx="55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PS/MP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5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1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0" y="833400"/>
            <a:ext cx="91440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cessidade de Financiamento do RGPS – Média móvel de 12 mes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dez/2001 a agosto/2013)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m R$ bilhões de Agosto/2013 (INPC)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25560" y="6464160"/>
            <a:ext cx="55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PS/MP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4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1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0" y="2060640"/>
            <a:ext cx="9144000" cy="21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BENEFÍCIOS EMITID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(ESTOQU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0" y="836640"/>
            <a:ext cx="9144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Quantidade de Benefícios Emitidos –</a:t>
            </a:r>
            <a:r>
              <a:rPr b="1" lang="pt-BR" sz="1700" spc="-1" strike="noStrike">
                <a:solidFill>
                  <a:srgbClr val="cc0000"/>
                </a:solidFill>
                <a:latin typeface="Arial"/>
                <a:ea typeface="Times New Roman"/>
              </a:rPr>
              <a:t> Agosto</a:t>
            </a:r>
            <a:r>
              <a:rPr b="1" lang="pt-BR" sz="1700" spc="-1" strike="noStrike">
                <a:solidFill>
                  <a:srgbClr val="cc0000"/>
                </a:solidFill>
                <a:latin typeface="Arial"/>
                <a:ea typeface="Arial"/>
              </a:rPr>
              <a:t>/2012, Julho</a:t>
            </a:r>
            <a:r>
              <a:rPr b="1" lang="pt-BR" sz="1700" spc="-1" strike="noStrike">
                <a:solidFill>
                  <a:srgbClr val="cc0000"/>
                </a:solidFill>
                <a:latin typeface="Arial"/>
                <a:ea typeface="Times New Roman"/>
              </a:rPr>
              <a:t>/2013 e Agosto/201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25560" y="65023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  Elaboração: SPPS/MP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Obs.: Os benefícios assistenciais, embora operacionalizados pelo INSS, estão sob a </a:t>
            </a: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responsabilidade do Ministério do Desenvolvimento Social e Combate à Fom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14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17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0" y="12682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ntre dezembro de 2003 e agosto de 2013, a quantidade de benefícios previdenciários e acidentários emitidos pela Previdência aumentou 36,4%, passando de 19,5 milhões para 26,6 milhõ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volução da Quantidade de Benefícios Emitidos pela Previdência Social</a:t>
            </a:r>
            <a:r>
              <a:rPr b="1" i="1" lang="pt-BR" sz="1600" spc="-1" strike="noStrike">
                <a:solidFill>
                  <a:srgbClr val="808080"/>
                </a:solidFill>
                <a:latin typeface="Arial"/>
                <a:ea typeface="Times New Roman"/>
              </a:rPr>
              <a:t> </a:t>
            </a:r>
            <a:br>
              <a:rPr sz="1600"/>
            </a:b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Em milhões de benefícios - 2003 a 2012 (dezembro), 2013 (Agost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50760" y="64832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 Elaboração: SPPS/MP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Obs.: Os benefícios assistenciais, embora operacionalizados pelo INSS, estão sob a </a:t>
            </a: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responsabilidade do Ministério do Desenvolvimento Social e Combate à Fom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13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0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0" y="836640"/>
            <a:ext cx="9144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alor Médio Real dos Benefícios Pagos pela Previdência Social (2006 a 2013)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1600"/>
            </a:b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Arial"/>
              </a:rPr>
              <a:t>Média de Janeiro a Agosto de cada ano –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 Em R$ de Agosto/2013 (IN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0" y="1268280"/>
            <a:ext cx="9144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O valor médio real dos benefícios da Previdência Social atingiu R$ 966,59, na média de janeiro a agosto de 2013, o que representou um crescimento de 18,0% em relação ao mesmo período de 2006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5031720" y="4956120"/>
            <a:ext cx="109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Variaçã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+18,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5"/>
          <p:cNvSpPr/>
          <p:nvPr/>
        </p:nvSpPr>
        <p:spPr>
          <a:xfrm flipV="1">
            <a:off x="2484360" y="5229360"/>
            <a:ext cx="2554200" cy="5047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6"/>
          <p:cNvSpPr/>
          <p:nvPr/>
        </p:nvSpPr>
        <p:spPr>
          <a:xfrm flipH="1">
            <a:off x="6084720" y="2924280"/>
            <a:ext cx="2159280" cy="2168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8160" y="6343560"/>
            <a:ext cx="8610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PS/MP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Obs.: Inclui apenas os benefícios previdenciários e acidentári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8" descr="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456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0" y="6356520"/>
            <a:ext cx="9144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s: DATAPREV, SUB, SINTESE. Elaboração: SPPS/MP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Obs.: A existência de benefícios com valores inferiores ao salário mínimo deve-se ao desmembramento de pensões e ao pagamento de benefícios como o salário-família, </a:t>
            </a:r>
            <a:br>
              <a:rPr sz="900"/>
            </a:b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o auxílio suplementar, o auxílio acidente e o abono de permanência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3348000" y="2133720"/>
            <a:ext cx="532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cc0000"/>
                </a:solidFill>
                <a:latin typeface="Arial"/>
                <a:ea typeface="Arial"/>
              </a:rPr>
              <a:t>Cerca de 69,4% dos benefícios pagos pelo INSS em Agosto/2013 possuíam o valor de até um salário mínimo, o que representa um contingente de 21,4 milhões de beneficiários direto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411280" y="4724280"/>
            <a:ext cx="326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cc0000"/>
                </a:solidFill>
                <a:latin typeface="Arial"/>
              </a:rPr>
              <a:t>703,4  mil pessoas: &lt; 1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6372360" y="3645000"/>
            <a:ext cx="1676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cc0000"/>
                </a:solidFill>
                <a:latin typeface="Arial"/>
              </a:rPr>
              <a:t>20,7 milhões de pessoas: 1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0" y="907920"/>
            <a:ext cx="9144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istribuição de Benefícios Emitidos, segundo faixas de Valore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Em Pisos Previdenciários (Posição Agosto/201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2049480" y="1557360"/>
            <a:ext cx="34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0000"/>
                </a:solidFill>
                <a:latin typeface="Arial"/>
              </a:rPr>
              <a:t>0,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2122560" y="1916280"/>
            <a:ext cx="34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0000"/>
                </a:solidFill>
                <a:latin typeface="Arial"/>
              </a:rPr>
              <a:t>0,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2193840" y="2205000"/>
            <a:ext cx="34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0000"/>
                </a:solidFill>
                <a:latin typeface="Arial"/>
              </a:rPr>
              <a:t>0,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2338200" y="2565360"/>
            <a:ext cx="34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0000"/>
                </a:solidFill>
                <a:latin typeface="Arial"/>
              </a:rPr>
              <a:t>0,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1"/>
          <p:cNvSpPr/>
          <p:nvPr/>
        </p:nvSpPr>
        <p:spPr>
          <a:xfrm>
            <a:off x="2482920" y="2852640"/>
            <a:ext cx="34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0000"/>
                </a:solidFill>
                <a:latin typeface="Arial"/>
              </a:rPr>
              <a:t>2,4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2"/>
          <p:cNvSpPr/>
          <p:nvPr/>
        </p:nvSpPr>
        <p:spPr>
          <a:xfrm>
            <a:off x="2554200" y="3213000"/>
            <a:ext cx="34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0000"/>
                </a:solidFill>
                <a:latin typeface="Arial"/>
              </a:rPr>
              <a:t>5,1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3"/>
          <p:cNvSpPr/>
          <p:nvPr/>
        </p:nvSpPr>
        <p:spPr>
          <a:xfrm>
            <a:off x="2698560" y="3573360"/>
            <a:ext cx="34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0000"/>
                </a:solidFill>
                <a:latin typeface="Arial"/>
              </a:rPr>
              <a:t>7,8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4"/>
          <p:cNvSpPr/>
          <p:nvPr/>
        </p:nvSpPr>
        <p:spPr>
          <a:xfrm>
            <a:off x="3274200" y="3933720"/>
            <a:ext cx="435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0000"/>
                </a:solidFill>
                <a:latin typeface="Arial"/>
              </a:rPr>
              <a:t>14,6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5"/>
          <p:cNvSpPr/>
          <p:nvPr/>
        </p:nvSpPr>
        <p:spPr>
          <a:xfrm>
            <a:off x="7377840" y="4292640"/>
            <a:ext cx="435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0000"/>
                </a:solidFill>
                <a:latin typeface="Arial"/>
              </a:rPr>
              <a:t>67,2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6"/>
          <p:cNvSpPr/>
          <p:nvPr/>
        </p:nvSpPr>
        <p:spPr>
          <a:xfrm>
            <a:off x="2409840" y="4724280"/>
            <a:ext cx="34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0000"/>
                </a:solidFill>
                <a:latin typeface="Arial"/>
              </a:rPr>
              <a:t>2,4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29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16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0" y="2492280"/>
            <a:ext cx="91076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BENEFÍCIOS CONCEDID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(FLUX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Quantidade de Benefícios Concedidos – RG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Agosto/2012, Julho/2013 e Agosto/2013 – Acumulado de Janeiro a Agosto (2012 e 201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50760" y="64897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PS/MP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13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0" y="836640"/>
            <a:ext cx="914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URBANO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gosto/2012, Julho/2013 e Agosto/2013 e Acumulado de Janeiro a Agosto (2012 e 2013) – Em R$ milhões de Agosto/2013 (IN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0" y="6308640"/>
            <a:ext cx="64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PS/MP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0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42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52280" y="907920"/>
            <a:ext cx="8991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Quantidade de Benefícios Concedidos pela Previdência Social (2005 a 2013) 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Acumulado de janeiro a agosto de cada ano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 (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</a:rPr>
              <a:t>Em milhares de benefíci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50760" y="646416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PS/MP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13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836640"/>
            <a:ext cx="914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URBANO</a:t>
            </a:r>
            <a:r>
              <a:rPr b="1" lang="pt-BR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gosto/2012, Julho/2013 e Agosto/2013 e Acumulado de Janeiro a Agosto (2012 e 2013) – Em R$ milhões nomin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0" y="621972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PS/MP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8" descr="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3636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ARRECADAÇÃO LÍQUIDA,  DESPESA COM BENEFÍCIOS E RESULTADO PREVIDENCIÁRI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RU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0" y="836640"/>
            <a:ext cx="914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s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RURAL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gosto/2012, Julho/2013 e Agosto/2013 e Acumulado de Janeiro a Agosto (2012 e 2013) – Em R$ milhões de Agosto/2013 (IN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0" y="649296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PS/MP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6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0" y="836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s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RURAL</a:t>
            </a:r>
            <a:r>
              <a:rPr b="1" lang="pt-BR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gosto/2012, Julho/2013 e Agosto/2013 e Acumulado de Janeiro a Agosto (2012 e 2013) – Em R$ milhões nomin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25560" y="6464160"/>
            <a:ext cx="55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PS/MP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5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0" y="981000"/>
            <a:ext cx="91440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</a:rPr>
              <a:t>RESULTADO DO RGP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0" y="765000"/>
            <a:ext cx="914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m R$ milhões de Agosto de 2013 (IN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0" y="645336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PS/MP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9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4983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8:10:19Z</dcterms:created>
  <dc:creator>Administrador</dc:creator>
  <dc:description/>
  <dc:language>en-US</dc:language>
  <cp:lastModifiedBy>Renata Nogueira Brumano Castro</cp:lastModifiedBy>
  <dcterms:modified xsi:type="dcterms:W3CDTF">2013-09-26T18:23:19Z</dcterms:modified>
  <cp:revision>321</cp:revision>
  <dc:subject/>
  <dc:title>Slide 1</dc:title>
</cp:coreProperties>
</file>