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501-D2C8-4EFB-A133-1099E1D177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510-4D16-444D-9694-5C46B7D579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542440" y="654516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1868-8568-4997-95C7-49C6147DE10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2" descr="cabecalho"/>
          <p:cNvPicPr/>
          <p:nvPr/>
        </p:nvPicPr>
        <p:blipFill>
          <a:blip r:embed="rId2"/>
          <a:srcRect l="0" t="89500" r="0" b="0"/>
          <a:stretch/>
        </p:blipFill>
        <p:spPr>
          <a:xfrm>
            <a:off x="0" y="6813720"/>
            <a:ext cx="9140760" cy="712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24"/>
          <p:cNvGrpSpPr/>
          <p:nvPr/>
        </p:nvGrpSpPr>
        <p:grpSpPr>
          <a:xfrm>
            <a:off x="0" y="0"/>
            <a:ext cx="9144000" cy="863640"/>
            <a:chOff x="0" y="0"/>
            <a:chExt cx="9144000" cy="863640"/>
          </a:xfrm>
        </p:grpSpPr>
        <p:pic>
          <p:nvPicPr>
            <p:cNvPr id="3" name="Picture 21" descr="cabecalho"/>
            <p:cNvPicPr/>
            <p:nvPr/>
          </p:nvPicPr>
          <p:blipFill>
            <a:blip r:embed="rId3"/>
            <a:stretch/>
          </p:blipFill>
          <p:spPr>
            <a:xfrm>
              <a:off x="0" y="648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23" descr="cabecalho"/>
            <p:cNvPicPr/>
            <p:nvPr/>
          </p:nvPicPr>
          <p:blipFill>
            <a:blip r:embed="rId4"/>
            <a:srcRect l="62205" t="0" r="15748" b="0"/>
            <a:stretch/>
          </p:blipFill>
          <p:spPr>
            <a:xfrm>
              <a:off x="7128000" y="0"/>
              <a:ext cx="201600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" name="Picture 25" descr="governo-FEDERAL-negat"/>
          <p:cNvPicPr/>
          <p:nvPr/>
        </p:nvPicPr>
        <p:blipFill>
          <a:blip r:embed="rId5"/>
          <a:stretch/>
        </p:blipFill>
        <p:spPr>
          <a:xfrm>
            <a:off x="7277040" y="176040"/>
            <a:ext cx="1687680" cy="51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igura2"/>
          <p:cNvPicPr/>
          <p:nvPr/>
        </p:nvPicPr>
        <p:blipFill>
          <a:blip r:embed="rId1"/>
          <a:stretch/>
        </p:blipFill>
        <p:spPr>
          <a:xfrm>
            <a:off x="68436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042920" y="1413000"/>
            <a:ext cx="69343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gosto/20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setembro de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3964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PS – Secretaria de Políticas de Previdência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63817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8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nos últimos 12 meses - Em R$ milhões de Agosto de 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6308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854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0" y="6308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ESONERAÇÃO DA FOLHA E REVISÕES ADMINISTRAT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(Revisão do inciso II, Art. 29, da Lei nº 8.213/91; Revisão do Teto Previdenciário; e Estoque de COMPRE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76500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ONERAÇÃO DA FOLHA – ESTIMATIVA DA RENÚNCIA - 201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A Portaria Conjunta STN/RFB/INSS/MPS nº 2, de 28/03/2013, estabelece a forma de apuração e repasse do valor da compensação devida pela União ao Fundo do Regime Geral de Previdência Social - FRGPS, em decorrência da desoneração de que trata a Lei 12.546, de 14 de dezembro de 201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551664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Receita Federal do Brasil.  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A] - Valor teórico da Contribuição Previdenciária incidente sobre a folha de salários, se não houvesse desoneração. Massa Salarial GFIP x Alíquota de 29,14%. Percentual histórico observado nos anos de 2008 a 2011 relativo ao grupo de contribuintes beneficiados, equivalente a Contribuição Previdenciária Cota do Segurado (8, 9 ou 11%), RAT (1 a 3%) e a Cota Patronal sobre o total da folha (20%)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B] - Pagamento em GPS. Contribuição Previdenciária Cota do Segurado (8, 9 ou 11%), RAT (1 a 3%) e parcela da Cota Patronal que permaneceu sobre folha (20%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C] - Contribuição Previdenciária Patronal sobre faturamento recolhida em DARF específic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D] - Total dos pagamentos efetuad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E] - Renúncia é igual à diferença entre [A] e [D]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VISÕES ADMINISTRATIVA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6308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1128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 e Despesa com Benefícios Previdenciários, nos últimos 25 meses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$ bilhões de Agosto/2013 - INPC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47184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8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907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Corrente, Recuperação de Créditos e Transferência a Terceiros, nos últimos 25 meses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$ bilhões de Agosto/2013 - INP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8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50920" y="836640"/>
            <a:ext cx="88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 Em R$ bilhões de Agosto/2013 (IN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4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8334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idade de Financiamento da Previdência Social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s últimos 25 meses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$ bilhões de Agosto/2013 - INP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836640"/>
            <a:ext cx="8991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z/2001 a Agosto/2013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$ Milhões de Agosto/2013 - INP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5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83340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idade de Financiament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dez/2001 a agosto/2013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R$ bilhões de Agosto/2013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836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Times New Roman"/>
              </a:rPr>
              <a:t> Agosto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"/>
              </a:rPr>
              <a:t>/2012, Julho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Times New Roman"/>
              </a:rPr>
              <a:t>/2013 e Agosto/201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5560" y="6502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268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3 e agosto de 2013, a quantidade de benefícios previdenciários e acidentários emitidos pela Previdência aumentou 36,4%, passando de 19,5 milhões para 26,6 milhõ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3 a 2012 (dezembro), 2013 (Agos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076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83664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Pagos pela Previdência Social (2006 a 2013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Média de Janeiro a Agost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Agosto/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268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a Previdência Social atingiu R$ 966,59, na média de janeiro a agosto de 2013, o que representou um crescimento de 18,0% em relação ao mesmo período de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03172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8,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2484360" y="5229360"/>
            <a:ext cx="2554200" cy="50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6084720" y="2924280"/>
            <a:ext cx="2159280" cy="216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160" y="634356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8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63565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348000" y="2133720"/>
            <a:ext cx="532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Cerca de 69,4% dos benefícios pagos pelo INSS em Agosto/2013 possuíam o valor de até um salário mínimo, o que representa um contingente de 21,4 milhões de beneficiários diret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411280" y="4724280"/>
            <a:ext cx="32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Arial"/>
              </a:rPr>
              <a:t>703,4  mil pessoas: &lt; 1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372360" y="36450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Arial"/>
              </a:rPr>
              <a:t>20,7 milhões de pessoas: 1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Pisos Previdenciários (Posição Agosto/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049480" y="15573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0,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122560" y="19162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0,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193840" y="220500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0,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338200" y="25653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0,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2482920" y="285264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2,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554200" y="321300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5,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2698560" y="35733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7,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274200" y="393372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14,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7377840" y="42926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67,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2409840" y="47242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2,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1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gosto/2012, Julho/2013 e Agosto/2013 – Acumulado de Janeiro a Agosto (2012 e 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0760" y="6489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gosto/2012, Julho/2013 e Agosto/2013 e Acumulado de Janeiro a Agosto (2012 e 2013) – Em R$ milhões de Agosto/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630864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0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52280" y="907920"/>
            <a:ext cx="8991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05 a 2013)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 agosto de cada an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0" y="64641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gosto/2012, Julho/2013 e Agosto/2013 e Acumulado de Janeiro a Agosto (2012 e 2013) – 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62197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8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836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gosto/2012, Julho/2013 e Agosto/2013 e Acumulado de Janeiro a Agosto (2012 e 2013) – Em R$ milhões de Agosto/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64929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836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gosto/2012, Julho/2013 e Agosto/2013 e Acumulado de Janeiro a Agosto (2012 e 2013) – 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Agosto de 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64533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10:19Z</dcterms:created>
  <dc:creator>Administrador</dc:creator>
  <dc:description/>
  <dc:language>en-US</dc:language>
  <cp:lastModifiedBy>Renata Nogueira Brumano Castro</cp:lastModifiedBy>
  <dcterms:modified xsi:type="dcterms:W3CDTF">2013-09-26T18:23:19Z</dcterms:modified>
  <cp:revision>321</cp:revision>
  <dc:subject/>
  <dc:title>Slide 1</dc:title>
</cp:coreProperties>
</file>